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961-2EF0-4AA8-A4E6-666835B9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C68-7974-4187-A4F1-910A5B1D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2F1-EDCA-40BB-A16A-FBFAD623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89F-FF6A-4FE2-9FF0-BE50DA8A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058-87C2-4E21-9863-35E46D7E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02CF-57F2-4B10-B68C-93F3C7F3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FA2-2637-4034-B019-5B9E4C1C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B6D6-3AE8-468C-84C3-2B6A422C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5064-2A46-4D4D-BEC1-3E5E7F96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8DB6-EC9E-4DC5-82F8-4A5F548D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B13-6CCA-463C-8C70-DD7A329E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6C44-AC59-43D8-B6E3-67A80A0C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8078-EF23-4E9B-9EC6-83A4AC5ABC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TO layout and definition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183440" y="1279440"/>
            <a:ext cx="1371240" cy="1218600"/>
            <a:chOff x="7183440" y="1279440"/>
            <a:chExt cx="1371240" cy="1218600"/>
          </a:xfrm>
        </p:grpSpPr>
        <p:sp>
          <p:nvSpPr>
            <p:cNvPr id="43" name=""/>
            <p:cNvSpPr/>
            <p:nvPr/>
          </p:nvSpPr>
          <p:spPr>
            <a:xfrm>
              <a:off x="7348320" y="2067840"/>
              <a:ext cx="1159920" cy="43020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183440" y="1960200"/>
              <a:ext cx="1371240" cy="430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816320" y="1314720"/>
              <a:ext cx="210960" cy="2152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10840" y="1279440"/>
              <a:ext cx="421560" cy="214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934320" y="2895480"/>
            <a:ext cx="99036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1447920"/>
            <a:ext cx="0" cy="14475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410080" y="1447560"/>
            <a:ext cx="1524240" cy="6094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410080" y="1828800"/>
            <a:ext cx="0" cy="17524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505320" y="3580920"/>
            <a:ext cx="1904760" cy="8384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504960" y="4419720"/>
            <a:ext cx="152280" cy="457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4876920"/>
            <a:ext cx="152388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48720" y="1523880"/>
            <a:ext cx="152280" cy="914400"/>
          </a:xfrm>
          <a:custGeom>
            <a:avLst/>
            <a:gdLst>
              <a:gd name="textAreaLeft" fmla="*/ 54720 w 152280"/>
              <a:gd name="textAreaRight" fmla="*/ 97560 w 152280"/>
              <a:gd name="textAreaTop" fmla="*/ 327960 h 914400"/>
              <a:gd name="textAreaBottom" fmla="*/ 586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43800" y="1219320"/>
            <a:ext cx="762120" cy="121896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0800000">
            <a:off x="7543440" y="1523880"/>
            <a:ext cx="762120" cy="914400"/>
          </a:xfrm>
          <a:custGeom>
            <a:avLst/>
            <a:gdLst>
              <a:gd name="textAreaLeft" fmla="*/ 225000 w 762120"/>
              <a:gd name="textAreaRight" fmla="*/ 537120 w 762120"/>
              <a:gd name="textAreaTop" fmla="*/ 269640 h 914400"/>
              <a:gd name="textAreaBottom" fmla="*/ 64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275" y="21600"/>
                </a:lnTo>
                <a:lnTo>
                  <a:pt x="8325" y="216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7924680" y="2438280"/>
            <a:ext cx="0" cy="457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48360" y="2819520"/>
            <a:ext cx="15228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346360" y="3473280"/>
            <a:ext cx="15228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0" y="1371600"/>
            <a:ext cx="15228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2819520"/>
            <a:ext cx="15228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590640" y="4770360"/>
            <a:ext cx="15228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2895480"/>
            <a:ext cx="75960" cy="1067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3048120"/>
            <a:ext cx="76320" cy="75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1143000"/>
            <a:ext cx="2590560" cy="236232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09560" y="350532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LT assemb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4280" y="48006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1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2520" y="41911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M1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11520" y="358128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M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4320" y="19051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M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35760" y="12193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3320" y="2819520"/>
            <a:ext cx="60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M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S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26120" y="28195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2778120"/>
            <a:ext cx="75960" cy="2286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417840" y="4286160"/>
            <a:ext cx="16344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3124080"/>
            <a:ext cx="152280" cy="152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858000" y="2514240"/>
            <a:ext cx="15228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05360" y="2590920"/>
            <a:ext cx="2286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43200" y="2463840"/>
            <a:ext cx="349920" cy="246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Q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35120" y="1571760"/>
            <a:ext cx="349920" cy="246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Q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181120" y="3200400"/>
            <a:ext cx="228600" cy="0"/>
          </a:xfrm>
          <a:prstGeom prst="line">
            <a:avLst/>
          </a:prstGeom>
          <a:ln w="1260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14640" y="3070080"/>
            <a:ext cx="349920" cy="24624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1640" y="3765600"/>
            <a:ext cx="420120" cy="24624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Q0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352680" y="4038120"/>
            <a:ext cx="152640" cy="381240"/>
          </a:xfrm>
          <a:prstGeom prst="line">
            <a:avLst/>
          </a:prstGeom>
          <a:ln w="1260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06280" y="137160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L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06280" y="243828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L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16640" y="5715000"/>
            <a:ext cx="3428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Underline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= Pointing control already installe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shed = Not yet instal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= Mirror or beamsplitter; </a:t>
            </a: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Green = Dichro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tal: 12 reflections, 6 transmiss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2666880"/>
            <a:ext cx="1067040" cy="152424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53600" y="4191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oll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11880" y="29718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S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36120" y="25146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S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33760" y="1927080"/>
            <a:ext cx="152280" cy="22860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2280" y="2743200"/>
            <a:ext cx="2514600" cy="2514600"/>
            <a:chOff x="152280" y="2743200"/>
            <a:chExt cx="2514600" cy="2514600"/>
          </a:xfrm>
        </p:grpSpPr>
        <p:sp>
          <p:nvSpPr>
            <p:cNvPr id="95" name=""/>
            <p:cNvSpPr/>
            <p:nvPr/>
          </p:nvSpPr>
          <p:spPr>
            <a:xfrm>
              <a:off x="299880" y="2743200"/>
              <a:ext cx="229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hicago Sum-Frequency Las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2280" y="3048120"/>
              <a:ext cx="2514600" cy="2209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133720" y="3429000"/>
              <a:ext cx="0" cy="144792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7400" y="4800600"/>
              <a:ext cx="15228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77960" y="48006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M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19240" y="4343400"/>
              <a:ext cx="228600" cy="76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19240" y="3381480"/>
              <a:ext cx="228600" cy="75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600200" y="3428640"/>
              <a:ext cx="533520" cy="114300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523880" y="4495680"/>
              <a:ext cx="152640" cy="15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66680" y="4572000"/>
              <a:ext cx="53352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80000">
              <a:off x="1600200" y="4267080"/>
              <a:ext cx="228600" cy="76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3520" y="4495680"/>
              <a:ext cx="533160" cy="152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8360" y="4216320"/>
              <a:ext cx="88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FG mod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96720" y="40384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7440" y="4267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495920" y="3048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42670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948120"/>
            <a:ext cx="7632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65040" y="4191120"/>
            <a:ext cx="60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u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indow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er 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aligned He-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utter can be opened only if Q3/Q0 ratio is above threshol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0 and Q3 must have sufficient dynamic r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He-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utter is closed within 20ms if Q3/Q0 falls below threshol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ffling is required to keep wayward beam in dom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verride needed to align BTO with dome clos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lsed la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l on quad cells must be sampled during the laser pulse, with inter-pulse background sampled and subtrac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am wander (~1 H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d-loop bandwidth of 10 Hz suffici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speed vibrations (~63 H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vibrations cannot be damped, then closed-loop bandwidth of &gt;80 Hz over Q0-M0 servo loop may be need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7:01:06Z</dcterms:created>
  <dc:creator>Antonin Bouchez</dc:creator>
  <dc:description/>
  <dc:language>en-US</dc:language>
  <cp:lastModifiedBy>Jet Propulsion Laboratory</cp:lastModifiedBy>
  <dcterms:modified xsi:type="dcterms:W3CDTF">2005-07-15T16:01:18Z</dcterms:modified>
  <cp:revision>17</cp:revision>
  <dc:subject/>
  <dc:title>BTO layout and definitions</dc:title>
</cp:coreProperties>
</file>