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DE1-97E8-4E91-AA48-3CEA908F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BA9-66F0-4090-8BC5-6C38757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2DF9-932F-468D-86D3-6567BA49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48E-C60E-40BE-A094-A29F7604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6D6-AA2D-4ED0-9BE6-21061A29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B58-FE63-4F9E-8793-3284C3F2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998-BAFA-4775-A8AF-FC0979A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67D-E4E9-45D3-B4C9-B5F3A5F8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FE8-6040-4444-8BD9-3CF63404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C09-C8AA-40C2-A581-D07C0CE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6DD-72FB-486D-B55D-17B2476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3BC-A33C-4930-A8F7-2E01BE6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B6AC-DC10-4CDE-803C-C3AE5A108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83440" y="1279440"/>
            <a:ext cx="1371240" cy="1218600"/>
            <a:chOff x="7183440" y="1279440"/>
            <a:chExt cx="1371240" cy="1218600"/>
          </a:xfrm>
        </p:grpSpPr>
        <p:sp>
          <p:nvSpPr>
            <p:cNvPr id="42" name=""/>
            <p:cNvSpPr/>
            <p:nvPr/>
          </p:nvSpPr>
          <p:spPr>
            <a:xfrm>
              <a:off x="7348320" y="2067840"/>
              <a:ext cx="1159920" cy="4302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183440" y="1960200"/>
              <a:ext cx="1371240" cy="430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16320" y="1314720"/>
              <a:ext cx="210960" cy="2152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10840" y="1279440"/>
              <a:ext cx="421560" cy="214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934320" y="2895480"/>
            <a:ext cx="9903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34320" y="1447920"/>
            <a:ext cx="0" cy="14475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410080" y="1447560"/>
            <a:ext cx="1524240" cy="609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10080" y="1828800"/>
            <a:ext cx="0" cy="17524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505320" y="3580920"/>
            <a:ext cx="1904760" cy="838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504960" y="4419720"/>
            <a:ext cx="15228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4876920"/>
            <a:ext cx="15238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523880"/>
            <a:ext cx="152280" cy="914400"/>
          </a:xfrm>
          <a:custGeom>
            <a:avLst/>
            <a:gdLst>
              <a:gd name="textAreaLeft" fmla="*/ 54720 w 152280"/>
              <a:gd name="textAreaRight" fmla="*/ 97560 w 152280"/>
              <a:gd name="textAreaTop" fmla="*/ 327960 h 914400"/>
              <a:gd name="textAreaBottom" fmla="*/ 586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219320"/>
            <a:ext cx="762120" cy="12189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7543440" y="1523880"/>
            <a:ext cx="762120" cy="914400"/>
          </a:xfrm>
          <a:custGeom>
            <a:avLst/>
            <a:gdLst>
              <a:gd name="textAreaLeft" fmla="*/ 225000 w 762120"/>
              <a:gd name="textAreaRight" fmla="*/ 537120 w 762120"/>
              <a:gd name="textAreaTop" fmla="*/ 269640 h 914400"/>
              <a:gd name="textAreaBottom" fmla="*/ 64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275" y="21600"/>
                </a:lnTo>
                <a:lnTo>
                  <a:pt x="8325" y="21600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924680" y="2438280"/>
            <a:ext cx="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84836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346360" y="34732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137160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2819520"/>
            <a:ext cx="15228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90640" y="477036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895480"/>
            <a:ext cx="75960" cy="1067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3048120"/>
            <a:ext cx="76320" cy="75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48520" y="1143000"/>
            <a:ext cx="2590560" cy="236232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09560" y="350532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 assemb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34280" y="4800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1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2520" y="419112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1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9240" y="365760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4320" y="1905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5760" y="12193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3320" y="2819520"/>
            <a:ext cx="60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M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6120" y="2819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2778120"/>
            <a:ext cx="75960" cy="2286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17840" y="4286160"/>
            <a:ext cx="16344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58000" y="251424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05360" y="259092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43200" y="246384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35120" y="157176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6280" y="13716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6280" y="243828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L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6640" y="5715000"/>
            <a:ext cx="342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= Mirror or beamsplitter; </a:t>
            </a:r>
            <a:r>
              <a:rPr b="0" lang="en-US" sz="1200" spc="-1" strike="noStrike">
                <a:solidFill>
                  <a:srgbClr val="00ff00"/>
                </a:solidFill>
                <a:latin typeface="Arial"/>
              </a:rPr>
              <a:t>Green = Dichro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: 12 reflections, 6 transmiss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2666880"/>
            <a:ext cx="1067040" cy="152424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3600" y="4191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o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1880" y="29718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6120" y="25146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S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333760" y="1927080"/>
            <a:ext cx="152280" cy="22860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2743200"/>
            <a:ext cx="2514600" cy="2514600"/>
            <a:chOff x="152280" y="2743200"/>
            <a:chExt cx="2514600" cy="2514600"/>
          </a:xfrm>
        </p:grpSpPr>
        <p:sp>
          <p:nvSpPr>
            <p:cNvPr id="89" name=""/>
            <p:cNvSpPr/>
            <p:nvPr/>
          </p:nvSpPr>
          <p:spPr>
            <a:xfrm>
              <a:off x="299880" y="2743200"/>
              <a:ext cx="22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hicago Sum-Frequency Las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2280" y="3048120"/>
              <a:ext cx="2514600" cy="220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33720" y="3429000"/>
              <a:ext cx="0" cy="144792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4800600"/>
              <a:ext cx="152280" cy="152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77960" y="48006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19240" y="434340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19240" y="3381480"/>
              <a:ext cx="22860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600200" y="3428640"/>
              <a:ext cx="533520" cy="114300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523880" y="44956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6680" y="4572000"/>
              <a:ext cx="53352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680000">
              <a:off x="1600200" y="4267080"/>
              <a:ext cx="228600" cy="76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4495680"/>
              <a:ext cx="533160" cy="15264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8360" y="421632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FG modu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96720" y="40384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7440" y="426708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7495920" y="30481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9481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5040" y="4191120"/>
            <a:ext cx="60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ud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6760" y="3962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2.7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2040" y="22860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.72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0120" y="15238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048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25920" y="198108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.276 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8160" y="3048120"/>
            <a:ext cx="349920" cy="246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181120" y="3200400"/>
            <a:ext cx="2286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124080"/>
            <a:ext cx="152280" cy="152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7:01:06Z</dcterms:created>
  <dc:creator>Antonin Bouchez</dc:creator>
  <dc:description/>
  <dc:language>en-US</dc:language>
  <cp:lastModifiedBy>Jet Propulsion Laboratory</cp:lastModifiedBy>
  <dcterms:modified xsi:type="dcterms:W3CDTF">2005-09-16T05:26:01Z</dcterms:modified>
  <cp:revision>22</cp:revision>
  <dc:subject/>
  <dc:title>BTO layout and definitions</dc:title>
</cp:coreProperties>
</file>