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AB31-417D-4EB4-B9D5-867CC7A47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90E2-5F3E-488A-82DD-8625E6D22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C43A-7D0B-4D87-949D-D8B4748ED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2F71-EA36-430D-92EB-C1471EE8A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5038-29D8-4B75-84F0-0EEF47659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BA24-BACE-44FC-8570-548C28A50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F822-C902-4D56-8D81-17D027A14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3EEE-B74B-4CE7-A2DD-481166911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B2A3-1EDE-4556-8505-733297C3D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2B24-6B68-4A49-9DF4-416C5A43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885B-9373-415B-B8B9-F8C42C80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DBB1-589C-47E7-9D6F-7B46459AF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BF3BB-D64E-4DFD-A529-5174D94FB1A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BTO layout and definition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7183440" y="1279440"/>
            <a:ext cx="1371240" cy="1218600"/>
            <a:chOff x="7183440" y="1279440"/>
            <a:chExt cx="1371240" cy="1218600"/>
          </a:xfrm>
        </p:grpSpPr>
        <p:sp>
          <p:nvSpPr>
            <p:cNvPr id="43" name=""/>
            <p:cNvSpPr/>
            <p:nvPr/>
          </p:nvSpPr>
          <p:spPr>
            <a:xfrm>
              <a:off x="7348320" y="2067840"/>
              <a:ext cx="1159920" cy="43020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7183440" y="1960200"/>
              <a:ext cx="1371240" cy="430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816320" y="1314720"/>
              <a:ext cx="210960" cy="21528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710840" y="1279440"/>
              <a:ext cx="421560" cy="214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934320" y="2895480"/>
            <a:ext cx="990360" cy="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934320" y="1447920"/>
            <a:ext cx="0" cy="14475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5410080" y="1447560"/>
            <a:ext cx="1524240" cy="60948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5410080" y="1828800"/>
            <a:ext cx="0" cy="175248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505320" y="3580920"/>
            <a:ext cx="1904760" cy="83844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3504960" y="4419720"/>
            <a:ext cx="152280" cy="45720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33720" y="4876920"/>
            <a:ext cx="1523880" cy="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848720" y="1523880"/>
            <a:ext cx="152280" cy="914400"/>
          </a:xfrm>
          <a:custGeom>
            <a:avLst/>
            <a:gdLst>
              <a:gd name="textAreaLeft" fmla="*/ 54720 w 152280"/>
              <a:gd name="textAreaRight" fmla="*/ 97560 w 152280"/>
              <a:gd name="textAreaTop" fmla="*/ 327960 h 914400"/>
              <a:gd name="textAreaBottom" fmla="*/ 5864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00" y="21600"/>
                </a:lnTo>
                <a:lnTo>
                  <a:pt x="10800" y="21600"/>
                </a:lnTo>
                <a:close/>
              </a:path>
            </a:pathLst>
          </a:cu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543800" y="1219320"/>
            <a:ext cx="762120" cy="121896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10800000">
            <a:off x="7543440" y="1523880"/>
            <a:ext cx="762120" cy="914400"/>
          </a:xfrm>
          <a:custGeom>
            <a:avLst/>
            <a:gdLst>
              <a:gd name="textAreaLeft" fmla="*/ 225000 w 762120"/>
              <a:gd name="textAreaRight" fmla="*/ 537120 w 762120"/>
              <a:gd name="textAreaTop" fmla="*/ 269640 h 914400"/>
              <a:gd name="textAreaBottom" fmla="*/ 64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3275" y="21600"/>
                </a:lnTo>
                <a:lnTo>
                  <a:pt x="8325" y="21600"/>
                </a:lnTo>
                <a:close/>
              </a:path>
            </a:pathLst>
          </a:cu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7924680" y="2438280"/>
            <a:ext cx="0" cy="45720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7848360" y="2819520"/>
            <a:ext cx="15228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5346360" y="3473280"/>
            <a:ext cx="152280" cy="2286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0" y="1371600"/>
            <a:ext cx="15228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58000" y="2819520"/>
            <a:ext cx="15228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590640" y="4770360"/>
            <a:ext cx="152280" cy="2286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91320" y="2895480"/>
            <a:ext cx="75960" cy="10670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867280" y="3733920"/>
            <a:ext cx="76320" cy="7596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67280" y="3048120"/>
            <a:ext cx="76320" cy="7596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48520" y="1143000"/>
            <a:ext cx="2590560" cy="2362320"/>
          </a:xfrm>
          <a:prstGeom prst="rect">
            <a:avLst/>
          </a:prstGeom>
          <a:noFill/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09560" y="3505320"/>
            <a:ext cx="113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LT assemb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4280" y="480060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1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2520" y="419112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M1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411520" y="3581280"/>
            <a:ext cx="3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M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954320" y="1905120"/>
            <a:ext cx="3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M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935760" y="1219320"/>
            <a:ext cx="3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3320" y="2819520"/>
            <a:ext cx="60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M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FSM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926120" y="2819520"/>
            <a:ext cx="3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20120" y="2778120"/>
            <a:ext cx="75960" cy="22860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417840" y="4286160"/>
            <a:ext cx="163440" cy="2286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34120" y="3124080"/>
            <a:ext cx="152280" cy="152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858000" y="2514240"/>
            <a:ext cx="15228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705360" y="2590920"/>
            <a:ext cx="228600" cy="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343200" y="2463840"/>
            <a:ext cx="349920" cy="246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Q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235120" y="1571760"/>
            <a:ext cx="349920" cy="246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Q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181120" y="3200400"/>
            <a:ext cx="228600" cy="0"/>
          </a:xfrm>
          <a:prstGeom prst="line">
            <a:avLst/>
          </a:prstGeom>
          <a:ln w="1260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14640" y="3070080"/>
            <a:ext cx="349920" cy="246240"/>
          </a:xfrm>
          <a:prstGeom prst="rect">
            <a:avLst/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Q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31640" y="3765600"/>
            <a:ext cx="420120" cy="246240"/>
          </a:xfrm>
          <a:prstGeom prst="rect">
            <a:avLst/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Q0?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3352680" y="4038120"/>
            <a:ext cx="152640" cy="381240"/>
          </a:xfrm>
          <a:prstGeom prst="line">
            <a:avLst/>
          </a:prstGeom>
          <a:ln w="1260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306280" y="1371600"/>
            <a:ext cx="5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LT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306280" y="2438280"/>
            <a:ext cx="5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LT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16640" y="5715000"/>
            <a:ext cx="3428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Underline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= Pointing control already installed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ashed = Not yet install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ite = Mirror or beamsplitter; </a:t>
            </a:r>
            <a:r>
              <a:rPr b="0" lang="en-US" sz="1200" spc="-1" strike="noStrike">
                <a:solidFill>
                  <a:srgbClr val="00ff00"/>
                </a:solidFill>
                <a:latin typeface="Arial"/>
              </a:rPr>
              <a:t>Green = Dichro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tal: 12 reflections, 6 transmiss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724280" y="2666880"/>
            <a:ext cx="1067040" cy="1524240"/>
          </a:xfrm>
          <a:prstGeom prst="rect">
            <a:avLst/>
          </a:prstGeom>
          <a:noFill/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953600" y="4191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olle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411880" y="29718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S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936120" y="25146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S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333760" y="1927080"/>
            <a:ext cx="152280" cy="22860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52280" y="2743200"/>
            <a:ext cx="2514600" cy="2514600"/>
            <a:chOff x="152280" y="2743200"/>
            <a:chExt cx="2514600" cy="2514600"/>
          </a:xfrm>
        </p:grpSpPr>
        <p:sp>
          <p:nvSpPr>
            <p:cNvPr id="95" name=""/>
            <p:cNvSpPr/>
            <p:nvPr/>
          </p:nvSpPr>
          <p:spPr>
            <a:xfrm>
              <a:off x="299880" y="2743200"/>
              <a:ext cx="229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hicago Sum-Frequency Las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52280" y="3048120"/>
              <a:ext cx="2514600" cy="22096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2133720" y="3429000"/>
              <a:ext cx="0" cy="1447920"/>
            </a:xfrm>
            <a:prstGeom prst="line">
              <a:avLst/>
            </a:prstGeom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57400" y="4800600"/>
              <a:ext cx="152280" cy="152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677960" y="4800600"/>
              <a:ext cx="39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ffffff"/>
                  </a:solidFill>
                  <a:uFillTx/>
                  <a:latin typeface="Arial"/>
                </a:rPr>
                <a:t>M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019240" y="4343400"/>
              <a:ext cx="228600" cy="7632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019240" y="3381480"/>
              <a:ext cx="228600" cy="759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1600200" y="3428640"/>
              <a:ext cx="533520" cy="1143000"/>
            </a:xfrm>
            <a:prstGeom prst="line">
              <a:avLst/>
            </a:prstGeom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1523880" y="4495680"/>
              <a:ext cx="152640" cy="1526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066680" y="4572000"/>
              <a:ext cx="533520" cy="0"/>
            </a:xfrm>
            <a:prstGeom prst="line">
              <a:avLst/>
            </a:prstGeom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1680000">
              <a:off x="1600200" y="4267080"/>
              <a:ext cx="228600" cy="7632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33520" y="4495680"/>
              <a:ext cx="533160" cy="152640"/>
            </a:xfrm>
            <a:prstGeom prst="rect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78360" y="4216320"/>
              <a:ext cx="88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SFG modu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296720" y="403848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L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287440" y="426708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L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7495920" y="30481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0" y="426708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267080" y="3948120"/>
            <a:ext cx="7632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65040" y="4191120"/>
            <a:ext cx="601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ud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indow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11320" y="365760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2.7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802040" y="2286000"/>
            <a:ext cx="63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3.72 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792760" y="137160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3.048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554520" y="2057400"/>
            <a:ext cx="63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.276 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Requirement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ser safe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-aligned He-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hutter can be opened only if Q3/Q0 ratio is above threshol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0 and Q3 must have sufficient dynamic rang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 He-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hutter is closed within 20ms if Q3/Q0 falls below threshol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ffling is required to keep wayward beam in dom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verride needed to align BTO with dome close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ulsed las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gnal on quad cells must be sampled during the laser pulse, with inter-pulse background sampled and subtrac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am wander (~1 H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osed-loop bandwidth of 10 Hz suffici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-speed vibrations (~63 H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vibrations cannot be damped, then closed-loop bandwidth of &gt;80 Hz over Q0-M0 servo loop may be need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3T17:01:06Z</dcterms:created>
  <dc:creator>Antonin Bouchez</dc:creator>
  <dc:description/>
  <dc:language>en-US</dc:language>
  <cp:lastModifiedBy>Jet Propulsion Laboratory</cp:lastModifiedBy>
  <dcterms:modified xsi:type="dcterms:W3CDTF">2005-07-15T16:12:55Z</dcterms:modified>
  <cp:revision>20</cp:revision>
  <dc:subject/>
  <dc:title>BTO layout and definitions</dc:title>
</cp:coreProperties>
</file>